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3FE6DD-45D4-4B7D-BE05-6F4F57BBF6A5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896FCF-831A-4ED4-BA5A-5EFC1B2157D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3800DC-3DB4-4CA6-BF46-2AEB51ACCE8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552920"/>
            <a:ext cx="5540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04110BCA-4227-4193-B8E1-CFACB527145F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hyperlink" Target="http://www.phoneyworld.com/handsets/overview.aspx?phone=siemens_a70" TargetMode="External"/><Relationship Id="rId10" Type="http://schemas.openxmlformats.org/officeDocument/2006/relationships/image" Target="../media/image12.png"/><Relationship Id="rId11" Type="http://schemas.openxmlformats.org/officeDocument/2006/relationships/hyperlink" Target="http://www.phoneyworld.com/handsets/overview.aspx?phone=siemens_a75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www.phoneyworld.com/handsets/overview.aspx?phone=siemens_ax75" TargetMode="Externa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Minion"/>
              </a:rPr>
              <a:t>Webcast / All-hands Meet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76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lemens J. J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 – March 17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298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ales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880" y="1038240"/>
            <a:ext cx="82472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inforcement of regional management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irect reporting line to CEO – No Global Sal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sia responsibilities reassigned to H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Denis Morel will assume responsibility for Western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Josef Forer is nominated as Eastern Europe 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He will assume regional coordination and be a member of the Extended Management Board (EM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MEA will be assigned to 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gnment of Sales BA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1360" indent="-255600">
              <a:lnSpc>
                <a:spcPct val="100000"/>
              </a:lnSpc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gional Business Administration (RM BA) and Sales Operations and Controlling (SOC) need to be closer aligned to further streamline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Marketing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14520"/>
            <a:ext cx="8305920" cy="387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Category Management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to focus on building the brand, championing market development and product communica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ove of field marketing into regions to be closer to the sales reg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Marketing Operations (MO) function installed to drive optimization of roles and processes to stabilize and continuously improve the global marketing organization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77320" y="3646440"/>
            <a:ext cx="0" cy="16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35400" y="1954080"/>
            <a:ext cx="0" cy="16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8920" y="3009960"/>
            <a:ext cx="3316320" cy="30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2160" y="2185920"/>
            <a:ext cx="3306600" cy="8240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51000" y="1103400"/>
            <a:ext cx="3313080" cy="86364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54320" y="3782880"/>
            <a:ext cx="100044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4120" y="3782880"/>
            <a:ext cx="144324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7480" y="3782880"/>
            <a:ext cx="121140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782880"/>
            <a:ext cx="1074960" cy="912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0960" y="3782880"/>
            <a:ext cx="1569960" cy="9129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8400" y="3782880"/>
            <a:ext cx="100044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" y="281160"/>
            <a:ext cx="7010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Global Marketing Organization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"/>
          <p:cNvSpPr/>
          <p:nvPr/>
        </p:nvSpPr>
        <p:spPr>
          <a:xfrm>
            <a:off x="1093680" y="5675400"/>
            <a:ext cx="259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360" y="5099040"/>
            <a:ext cx="259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Functional Responsibil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8360" y="1228680"/>
            <a:ext cx="40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hief Marketing Officer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Richard Le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8440" y="2151000"/>
            <a:ext cx="38656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 Operations (MO)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anagement &amp; CMO Deputy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080" y="3792600"/>
            <a:ext cx="125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r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tefan Lo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800" y="3790800"/>
            <a:ext cx="193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ccount Marke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m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channewitz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5360" y="3772080"/>
            <a:ext cx="13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evina K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5400" y="3772080"/>
            <a:ext cx="11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Brand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Nina Bra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1400" y="3772080"/>
            <a:ext cx="12474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thia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Gil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3784680"/>
            <a:ext cx="16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WE, EE, LAM,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2952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O/MO Ass. F. Biberg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48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7360" y="361800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6240" y="36194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4880" y="3624120"/>
            <a:ext cx="0" cy="1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6320" y="5235480"/>
            <a:ext cx="474840" cy="3272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800" y="5775480"/>
            <a:ext cx="474480" cy="326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8760" y="154296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5240" y="2639880"/>
            <a:ext cx="10382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1527120"/>
            <a:ext cx="0" cy="1057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7000" y="2201760"/>
            <a:ext cx="2955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1793880"/>
            <a:ext cx="135072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8400" y="1851120"/>
            <a:ext cx="15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ilke Cor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60684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0120" y="3782880"/>
            <a:ext cx="1243080" cy="912960"/>
          </a:xfrm>
          <a:prstGeom prst="rect">
            <a:avLst/>
          </a:pr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4760" y="3772080"/>
            <a:ext cx="1476000" cy="9464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Regional Mk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up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Mu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360684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56480" y="35942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3320" y="50400"/>
            <a:ext cx="811836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Realigning the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8520"/>
            <a:ext cx="8601120" cy="44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mplementary partner to Global Marketing where both organizations share ONE GOAL of achieving profitable growt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Develop the four categories through product development, portfolio and lifecycle management 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ategory Managers to drive the portfolio process and product roadmap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Translate the expected market requirements into marketable value proposi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Kickoff of innovative projects to address mid-term market disruption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assign technical functions (e.g. SW architecture, etc.) to R&amp;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55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Assign IPR and standardization resources to BMG ISR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" y="5115240"/>
            <a:ext cx="81025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tails of transfer will be specified within Marc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Category Management Organiza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500688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17845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9600" y="849240"/>
            <a:ext cx="4608360" cy="64944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ategory Management</a:t>
            </a:r>
            <a:br>
              <a:rPr sz="20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hil Mulholland &amp; Harrison Chang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2888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ans-Joachim G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4780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Image &amp;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ettina Siegw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36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Affordabl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Katrin Bra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08924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Pa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efan Re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808520"/>
            <a:ext cx="25192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VA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ernot v. Natz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30880" y="1928880"/>
            <a:ext cx="2157480" cy="5763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. Sebastian H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240" y="1928880"/>
            <a:ext cx="1800360" cy="1109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nov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we Sy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59240" y="318132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nnovation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9240" y="390204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y &amp;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6032520"/>
            <a:ext cx="1800000" cy="649440"/>
          </a:xfrm>
          <a:prstGeom prst="rect">
            <a:avLst/>
          </a:prstGeom>
          <a:solidFill>
            <a:srgbClr val="e3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Ins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Gil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9960" y="264780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ortfolio Strategy &amp;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19960" y="3368520"/>
            <a:ext cx="1800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Key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Strategy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19960" y="4087800"/>
            <a:ext cx="180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9960" y="509760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 &amp; </a:t>
            </a: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Partner Developm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1641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6880" y="17845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4880" y="30351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14880" y="4334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4880" y="3540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300360" y="2505240"/>
            <a:ext cx="324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3960" y="286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3960" y="3656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3960" y="43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3960" y="567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29240"/>
            <a:ext cx="2522520" cy="57636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M Taip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hinlung 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78" idx="2"/>
            <a:endCxn id="179" idx="3"/>
          </p:cNvCxnSpPr>
          <p:nvPr/>
        </p:nvCxnSpPr>
        <p:spPr>
          <a:xfrm rot="5400000">
            <a:off x="3026160" y="1459440"/>
            <a:ext cx="71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78" idx="2"/>
            <a:endCxn id="180" idx="3"/>
          </p:cNvCxnSpPr>
          <p:nvPr/>
        </p:nvCxnSpPr>
        <p:spPr>
          <a:xfrm rot="5400000">
            <a:off x="2666520" y="1819080"/>
            <a:ext cx="143892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8" idx="2"/>
            <a:endCxn id="181" idx="3"/>
          </p:cNvCxnSpPr>
          <p:nvPr/>
        </p:nvCxnSpPr>
        <p:spPr>
          <a:xfrm rot="5400000">
            <a:off x="2306160" y="2179440"/>
            <a:ext cx="215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8" idx="2"/>
            <a:endCxn id="182" idx="3"/>
          </p:cNvCxnSpPr>
          <p:nvPr/>
        </p:nvCxnSpPr>
        <p:spPr>
          <a:xfrm rot="5400000">
            <a:off x="1945800" y="2539800"/>
            <a:ext cx="288036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8" idx="2"/>
            <a:endCxn id="183" idx="3"/>
          </p:cNvCxnSpPr>
          <p:nvPr/>
        </p:nvCxnSpPr>
        <p:spPr>
          <a:xfrm rot="5400000">
            <a:off x="1586160" y="2899440"/>
            <a:ext cx="3599640" cy="79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78" idx="2"/>
            <a:endCxn id="203" idx="3"/>
          </p:cNvCxnSpPr>
          <p:nvPr/>
        </p:nvCxnSpPr>
        <p:spPr>
          <a:xfrm rot="5400000">
            <a:off x="1227240" y="3261240"/>
            <a:ext cx="4320360" cy="79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 flipH="1">
            <a:off x="3782520" y="1641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1138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851040"/>
            <a:ext cx="1511280" cy="647640"/>
          </a:xfrm>
          <a:prstGeom prst="flowChartProcess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oland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5126040"/>
            <a:ext cx="158436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isru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3080" y="425916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5557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594320"/>
            <a:ext cx="1800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4883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-1638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asoning for bringing both Product Hous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993600"/>
            <a:ext cx="8624880" cy="10368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7440" y="993600"/>
            <a:ext cx="2246400" cy="1036800"/>
          </a:xfrm>
          <a:custGeom>
            <a:avLst/>
            <a:gdLst>
              <a:gd name="textAreaLeft" fmla="*/ 0 w 2246400"/>
              <a:gd name="textAreaRight" fmla="*/ 2246760 w 22464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63" y="0"/>
                </a:lnTo>
                <a:lnTo>
                  <a:pt x="21600" y="10800"/>
                </a:lnTo>
                <a:lnTo>
                  <a:pt x="17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BMG Product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62120" y="987480"/>
            <a:ext cx="6297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Realizing synergies / commu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tandardized targets, structures, KPIs &amp;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Simplified structure with clear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+ Faster alignment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9800" y="2073240"/>
            <a:ext cx="8120160" cy="1953720"/>
            <a:chOff x="739800" y="2073240"/>
            <a:chExt cx="8120160" cy="1953720"/>
          </a:xfrm>
        </p:grpSpPr>
        <p:sp>
          <p:nvSpPr>
            <p:cNvPr id="224" name=""/>
            <p:cNvSpPr/>
            <p:nvPr/>
          </p:nvSpPr>
          <p:spPr>
            <a:xfrm>
              <a:off x="755640" y="2109960"/>
              <a:ext cx="8104320" cy="12603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2109960"/>
              <a:ext cx="1717560" cy="12603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R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Research &amp;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2120" y="2073240"/>
              <a:ext cx="629784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Increased efficiency – reuse of technologies &amp; higher uti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Clearer program responsi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ore speed and market flexibility than totally centralist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systems &amp; software architecture, predevelopments &amp; inno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eveloping global platform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Alignment needs on system concept and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9800" y="3446640"/>
            <a:ext cx="8120160" cy="1333800"/>
            <a:chOff x="739800" y="3446640"/>
            <a:chExt cx="8120160" cy="1333800"/>
          </a:xfrm>
        </p:grpSpPr>
        <p:sp>
          <p:nvSpPr>
            <p:cNvPr id="228" name=""/>
            <p:cNvSpPr/>
            <p:nvPr/>
          </p:nvSpPr>
          <p:spPr>
            <a:xfrm>
              <a:off x="755640" y="3454560"/>
              <a:ext cx="8104320" cy="108576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800" y="3454560"/>
              <a:ext cx="1717560" cy="10857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TP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Technical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duct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3446640"/>
              <a:ext cx="62978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Driving product realization across all Product Hous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PEED and COST focus (T2M, T2V as well as product cost, quali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Project management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End2end responsibility – from cradle to gr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-  Potential conflicts with product lin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39800" y="4611600"/>
            <a:ext cx="8120160" cy="941400"/>
            <a:chOff x="739800" y="4611600"/>
            <a:chExt cx="8120160" cy="941400"/>
          </a:xfrm>
        </p:grpSpPr>
        <p:sp>
          <p:nvSpPr>
            <p:cNvPr id="232" name=""/>
            <p:cNvSpPr/>
            <p:nvPr/>
          </p:nvSpPr>
          <p:spPr>
            <a:xfrm>
              <a:off x="755640" y="4611600"/>
              <a:ext cx="8104320" cy="941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800" y="4611600"/>
              <a:ext cx="1717560" cy="9414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P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trategic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2120" y="4888080"/>
              <a:ext cx="6297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Synergy, Simplification, Better Resources Sharing &amp; Negotiation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9800" y="5629320"/>
            <a:ext cx="8120160" cy="1229760"/>
            <a:chOff x="739800" y="5629320"/>
            <a:chExt cx="8120160" cy="1229760"/>
          </a:xfrm>
        </p:grpSpPr>
        <p:sp>
          <p:nvSpPr>
            <p:cNvPr id="236" name=""/>
            <p:cNvSpPr/>
            <p:nvPr/>
          </p:nvSpPr>
          <p:spPr>
            <a:xfrm>
              <a:off x="755640" y="5629320"/>
              <a:ext cx="8104320" cy="9396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800" y="5629320"/>
              <a:ext cx="1717560" cy="93960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BMG PH SCM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2120" y="5670720"/>
              <a:ext cx="62978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is part of regional operations – fitting to BenQ 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Manufacturing can possibly be basis for multiple product ran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inion"/>
                </a:rPr>
                <a:t>+ Global functions of QM, OF, TLM &amp; MO with regional off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256680"/>
            <a:ext cx="823140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7470720" y="349740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1009800"/>
            <a:ext cx="4697280" cy="75564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73280" y="1228680"/>
            <a:ext cx="3832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nion"/>
              </a:rPr>
              <a:t>Dr. Jochen Eickholt &amp; Dr. Irwin C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6840" y="2111400"/>
            <a:ext cx="8417880" cy="2312640"/>
            <a:chOff x="366840" y="2111400"/>
            <a:chExt cx="8417880" cy="2312640"/>
          </a:xfrm>
        </p:grpSpPr>
        <p:sp>
          <p:nvSpPr>
            <p:cNvPr id="244" name=""/>
            <p:cNvSpPr/>
            <p:nvPr/>
          </p:nvSpPr>
          <p:spPr>
            <a:xfrm>
              <a:off x="366840" y="2111400"/>
              <a:ext cx="20055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chnical Product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Holger Asmussen /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at Hsu /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Katrin Bra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1000" y="2111400"/>
              <a:ext cx="20095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Research &amp; 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Siegfried Bocion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Yungchia Lee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2120" y="2111400"/>
              <a:ext cx="200592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trategic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Teresa W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act. Jens Danneil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0960" y="2111400"/>
              <a:ext cx="2003760" cy="2312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</a:rPr>
                <a:t>PH S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Supply Chain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Gerold Simbürger</a:t>
              </a:r>
              <a:br>
                <a:rPr sz="1600"/>
              </a:br>
              <a:r>
                <a:rPr b="1" lang="en-US" sz="1600" spc="-1" strike="noStrike">
                  <a:solidFill>
                    <a:srgbClr val="3a0e66"/>
                  </a:solidFill>
                  <a:latin typeface="Minion"/>
                </a:rPr>
                <a:t>(deput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" name=""/>
          <p:cNvCxnSpPr>
            <a:stCxn id="241" idx="2"/>
            <a:endCxn id="244" idx="0"/>
          </p:cNvCxnSpPr>
          <p:nvPr/>
        </p:nvCxnSpPr>
        <p:spPr>
          <a:xfrm rot="5400000">
            <a:off x="2793600" y="341280"/>
            <a:ext cx="346680" cy="3194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2"/>
            <a:endCxn id="245" idx="0"/>
          </p:cNvCxnSpPr>
          <p:nvPr/>
        </p:nvCxnSpPr>
        <p:spPr>
          <a:xfrm rot="5400000">
            <a:off x="3866760" y="1414440"/>
            <a:ext cx="346680" cy="10483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1" idx="2"/>
            <a:endCxn id="246" idx="0"/>
          </p:cNvCxnSpPr>
          <p:nvPr/>
        </p:nvCxnSpPr>
        <p:spPr>
          <a:xfrm flipH="1" rot="16200000">
            <a:off x="4925880" y="1402200"/>
            <a:ext cx="346680" cy="1072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1" idx="2"/>
            <a:endCxn id="247" idx="0"/>
          </p:cNvCxnSpPr>
          <p:nvPr/>
        </p:nvCxnSpPr>
        <p:spPr>
          <a:xfrm flipH="1" rot="16200000">
            <a:off x="5999760" y="328320"/>
            <a:ext cx="346680" cy="3220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509760" y="4659480"/>
            <a:ext cx="82468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duct House BA responsibility with L.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TPM BA is integrated into RD BA as both organizations cope with project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600" indent="-173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P BA is integrated in SCM BA in order to better cope with the product cos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0600" y="4572000"/>
            <a:ext cx="8353440" cy="1706400"/>
          </a:xfrm>
          <a:prstGeom prst="rect">
            <a:avLst/>
          </a:prstGeom>
          <a:noFill/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R&amp;D with products and platforms assigned to four R&amp;D Cent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9160" y="1409760"/>
            <a:ext cx="807840" cy="5387760"/>
            <a:chOff x="119160" y="1409760"/>
            <a:chExt cx="807840" cy="5387760"/>
          </a:xfrm>
        </p:grpSpPr>
        <p:sp>
          <p:nvSpPr>
            <p:cNvPr id="257" name=""/>
            <p:cNvSpPr/>
            <p:nvPr/>
          </p:nvSpPr>
          <p:spPr>
            <a:xfrm>
              <a:off x="119160" y="1409760"/>
              <a:ext cx="807840" cy="538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6120" y="147636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TP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260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81000" y="1405080"/>
            <a:ext cx="62978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76560" y="341640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12760" y="2235240"/>
            <a:ext cx="5491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9200" y="14698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112760" y="2236320"/>
            <a:ext cx="28800" cy="378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131480" y="3578400"/>
            <a:ext cx="20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133640" y="4171680"/>
            <a:ext cx="204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134720" y="481932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137960" y="542088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130040" y="6022440"/>
            <a:ext cx="204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33360" y="330660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Process, Tools,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ethodolog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3840" y="3998880"/>
            <a:ext cx="5079960" cy="33516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5000" y="464184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52531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5000" y="5845320"/>
            <a:ext cx="5079960" cy="33480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0" y="0"/>
                </a:lnTo>
                <a:lnTo>
                  <a:pt x="21600" y="10800"/>
                </a:lnTo>
                <a:lnTo>
                  <a:pt x="20820" y="21600"/>
                </a:lnTo>
                <a:lnTo>
                  <a:pt x="0" y="21600"/>
                </a:lnTo>
                <a:lnTo>
                  <a:pt x="780" y="10800"/>
                </a:lnTo>
                <a:close/>
              </a:path>
            </a:pathLst>
          </a:cu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35160" y="39006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Concepts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SW Arch. 3</a:t>
            </a:r>
            <a:r>
              <a:rPr b="0" lang="en-US" sz="900" spc="-1" strike="noStrike" baseline="30000">
                <a:solidFill>
                  <a:srgbClr val="3a0e66"/>
                </a:solidFill>
                <a:latin typeface="Minion"/>
              </a:rPr>
              <a:t>rd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Integration, predevelopm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36600" y="4549680"/>
            <a:ext cx="1173240" cy="53208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Industrialization </a:t>
            </a:r>
            <a:br>
              <a:rPr sz="1300"/>
            </a:b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D, layout, assemb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concept, Production 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39840" y="5149800"/>
            <a:ext cx="1173240" cy="53172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&amp;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1920" y="5754600"/>
            <a:ext cx="1173240" cy="527040"/>
          </a:xfrm>
          <a:prstGeom prst="rect">
            <a:avLst/>
          </a:prstGeom>
          <a:solidFill>
            <a:srgbClr val="a6a0c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Value Added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04920" y="1739880"/>
            <a:ext cx="972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8448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999720" y="382428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60240" y="3819240"/>
            <a:ext cx="4092480" cy="112428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23960" y="2378160"/>
            <a:ext cx="103356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unich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Manaus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2177640" y="3822840"/>
            <a:ext cx="4092480" cy="111744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22800" y="223056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378160"/>
            <a:ext cx="1033200" cy="7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Taip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Hsinch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uzh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4547880" y="3825720"/>
            <a:ext cx="4092840" cy="11239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02400" y="224316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00720" y="225108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212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Kamp-Lintfort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Wroclaw 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755440" y="3155760"/>
            <a:ext cx="4087440" cy="1958760"/>
            <a:chOff x="2755440" y="3155760"/>
            <a:chExt cx="4087440" cy="1958760"/>
          </a:xfrm>
        </p:grpSpPr>
        <p:sp>
          <p:nvSpPr>
            <p:cNvPr id="297" name=""/>
            <p:cNvSpPr/>
            <p:nvPr/>
          </p:nvSpPr>
          <p:spPr>
            <a:xfrm flipH="1" flipV="1">
              <a:off x="2755440" y="315720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0800000">
              <a:off x="2880360" y="38322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10800000">
              <a:off x="2890800" y="42753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10800000">
              <a:off x="2890800" y="472500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771280" y="44622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65520" y="40230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763360" y="49003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65520" y="3571200"/>
              <a:ext cx="110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 rot="10800000">
              <a:off x="2884320" y="33807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844440" y="3155760"/>
              <a:ext cx="1764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0800000">
              <a:off x="3969360" y="383040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3979800" y="4272840"/>
              <a:ext cx="57168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 rot="10800000">
              <a:off x="3979800" y="472356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60280" y="44611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854520" y="40204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52360" y="48996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854520" y="3569760"/>
              <a:ext cx="10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800000">
              <a:off x="3972600" y="33793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021280" y="3163680"/>
              <a:ext cx="15840" cy="175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0800000">
              <a:off x="5146560" y="383940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 rot="10800000">
              <a:off x="5155200" y="428364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 rot="10800000">
              <a:off x="5155200" y="473328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35320" y="4470120"/>
              <a:ext cx="112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28840" y="403092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8840" y="490788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28840" y="357804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 rot="10800000">
              <a:off x="5149800" y="338868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137280" y="3171960"/>
              <a:ext cx="17280" cy="175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 rot="10800000">
              <a:off x="6262560" y="3847320"/>
              <a:ext cx="571680" cy="37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 rot="10800000">
              <a:off x="6271200" y="429156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H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 rot="10800000">
              <a:off x="6271200" y="4740120"/>
              <a:ext cx="571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152760" y="4478400"/>
              <a:ext cx="111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146280" y="403920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44840" y="4915800"/>
              <a:ext cx="111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146280" y="3585960"/>
              <a:ext cx="10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 rot="10800000">
              <a:off x="6265800" y="3395520"/>
              <a:ext cx="57168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Prog.</a:t>
              </a:r>
              <a:br>
                <a:rPr sz="1300"/>
              </a:br>
              <a:r>
                <a:rPr b="0" lang="en-US" sz="1300" spc="-1" strike="noStrike">
                  <a:solidFill>
                    <a:srgbClr val="3a0e66"/>
                  </a:solidFill>
                  <a:latin typeface="Minion"/>
                </a:rPr>
                <a:t>Mg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888080" y="2376360"/>
            <a:ext cx="10461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</a:rPr>
              <a:t>(II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Beijing</a:t>
            </a:r>
            <a:br>
              <a:rPr sz="1300"/>
            </a:b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Shangha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5600" y="1496880"/>
            <a:ext cx="2546280" cy="6001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Siegfried Bocione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Yungchai Lee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89080" y="23097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R&amp;D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Technical Product Management with clear Project Management Focu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8" name=""/>
          <p:cNvSpPr/>
          <p:nvPr/>
        </p:nvSpPr>
        <p:spPr>
          <a:xfrm>
            <a:off x="119160" y="1409760"/>
            <a:ext cx="630396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60" y="147636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40760" y="1398600"/>
            <a:ext cx="1650600" cy="5388120"/>
            <a:chOff x="7340760" y="1398600"/>
            <a:chExt cx="1650600" cy="5388120"/>
          </a:xfrm>
        </p:grpSpPr>
        <p:sp>
          <p:nvSpPr>
            <p:cNvPr id="341" name=""/>
            <p:cNvSpPr/>
            <p:nvPr/>
          </p:nvSpPr>
          <p:spPr>
            <a:xfrm>
              <a:off x="734076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1398600"/>
              <a:ext cx="798120" cy="53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5080" y="146844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9040" y="1460520"/>
              <a:ext cx="7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2000" spc="-1" strike="noStrike">
                  <a:solidFill>
                    <a:srgbClr val="3a0e66"/>
                  </a:solidFill>
                  <a:latin typeface="Minion"/>
                </a:rPr>
                <a:t>S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1800" y="139392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91600" y="14558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2960" y="2568600"/>
            <a:ext cx="2633760" cy="111132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Europe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Holger Asmu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68600" y="2567160"/>
            <a:ext cx="2633760" cy="1110960"/>
          </a:xfrm>
          <a:prstGeom prst="rect">
            <a:avLst/>
          </a:prstGeom>
          <a:solidFill>
            <a:srgbClr val="cfcd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PM Asia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cl. TPM BO (to be set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at Hsu / act. Katrin Bra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231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rategic Procur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1398600"/>
            <a:ext cx="63039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93240" y="139860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9900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0240" y="14605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" y="1403280"/>
            <a:ext cx="7984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120" y="146520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84240" y="1409760"/>
            <a:ext cx="79848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4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5120" y="1549440"/>
            <a:ext cx="2541600" cy="53028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Teresa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nion"/>
              </a:rPr>
              <a:t>act. Jens Danneil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640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asic System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Framework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B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8480" y="2558880"/>
            <a:ext cx="110160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ustomized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Component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(C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95760" y="2558880"/>
            <a:ext cx="1192320" cy="3753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echanics, Plastics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&amp; Assembly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MP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2557440"/>
            <a:ext cx="979560" cy="2664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Indir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terial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Site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5160" y="5797440"/>
            <a:ext cx="3705120" cy="4320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Global Logistic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160" y="529128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5160" y="4788000"/>
            <a:ext cx="3705120" cy="43164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Procurement  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5160" y="2549520"/>
            <a:ext cx="884160" cy="153972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esses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Reporting &amp;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Controlling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RC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5160" y="4186080"/>
            <a:ext cx="884160" cy="154008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egal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Management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&amp; Compliance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(LM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1" idx="2"/>
            <a:endCxn id="364" idx="0"/>
          </p:cNvCxnSpPr>
          <p:nvPr/>
        </p:nvCxnSpPr>
        <p:spPr>
          <a:xfrm rot="5400000">
            <a:off x="4979520" y="2292120"/>
            <a:ext cx="479880" cy="54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4" idx="0"/>
            <a:endCxn id="362" idx="0"/>
          </p:cNvCxnSpPr>
          <p:nvPr/>
        </p:nvCxnSpPr>
        <p:spPr>
          <a:xfrm rot="5400000">
            <a:off x="4578480" y="1946160"/>
            <a:ext cx="2520" cy="122616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rot="5400000">
            <a:off x="988200" y="3702600"/>
            <a:ext cx="2948760" cy="656280"/>
          </a:xfrm>
          <a:prstGeom prst="bentConnector4">
            <a:avLst>
              <a:gd name="adj1" fmla="val -7863"/>
              <a:gd name="adj2" fmla="val 125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135160" y="428616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Local Procurement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61" idx="2"/>
            <a:endCxn id="363" idx="0"/>
          </p:cNvCxnSpPr>
          <p:nvPr/>
        </p:nvCxnSpPr>
        <p:spPr>
          <a:xfrm rot="5400000">
            <a:off x="3777840" y="1090440"/>
            <a:ext cx="479880" cy="2458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1" idx="2"/>
            <a:endCxn id="365" idx="0"/>
          </p:cNvCxnSpPr>
          <p:nvPr/>
        </p:nvCxnSpPr>
        <p:spPr>
          <a:xfrm flipH="1" rot="16200000">
            <a:off x="5624280" y="1700640"/>
            <a:ext cx="478440" cy="1235880"/>
          </a:xfrm>
          <a:prstGeom prst="bentConnector3">
            <a:avLst>
              <a:gd name="adj1" fmla="val 4977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1" idx="2"/>
            <a:endCxn id="369" idx="0"/>
          </p:cNvCxnSpPr>
          <p:nvPr/>
        </p:nvCxnSpPr>
        <p:spPr>
          <a:xfrm flipH="1" rot="16200000">
            <a:off x="6151320" y="1173600"/>
            <a:ext cx="470520" cy="2282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35160" y="3782880"/>
            <a:ext cx="3703680" cy="430200"/>
          </a:xfrm>
          <a:prstGeom prst="rect">
            <a:avLst/>
          </a:prstGeom>
          <a:solidFill>
            <a:srgbClr val="a6a0c2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Procurement Engineering (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911160"/>
            <a:ext cx="82389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BenQ Corp reports a loss of ~150 Mio € for Q4 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 profits from IT and CE were not large enough to compensate for these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he key to BenQ turnaround is to improve the situation of BM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Despite significant progress (reduction of quarterly run rate by &gt; 40% in Q4 CY2005 / &gt; 100 Mio. €), cost position is not in line with revenue expect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target: 100 Mio € functional cost reduction in 2006 which will also affect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tructural adjustments will contribute to Value, Cost, and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l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gional management structure is being reinfor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sef Forer is nominated as Eastern Europe Head (incl. MEA) and will assume regional coordination being part of the Extended Management Board (EM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nis Morel will assume responsibility for Wester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chard Leong has been nominated as Chief Marketing Officer (CM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andra Rubart will lead Marketing Operations (MO) to drive optimization of role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eld marketing moves into sales regions while HQ marketing focuses on building the brand, championing market development, and product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Managers to drive the portfolio process and product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 and Technology Management will be split up between Category Management and 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97160" y="1398600"/>
            <a:ext cx="669456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31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Product House Set-Up: Supply Chain Management – Applying BenQ principles with regional manufactur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2383200" y="1461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2680" y="936720"/>
            <a:ext cx="8894880" cy="420480"/>
          </a:xfrm>
          <a:prstGeom prst="triangle">
            <a:avLst>
              <a:gd name="adj" fmla="val 50000"/>
            </a:avLst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</a:rPr>
              <a:t>Product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9680" y="1398600"/>
            <a:ext cx="67284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84440" y="14670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320" y="1403280"/>
            <a:ext cx="67932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40" y="14652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T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5720" y="1409760"/>
            <a:ext cx="679320" cy="53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32400" y="147168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5960" y="1866960"/>
            <a:ext cx="1225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6320" y="1549440"/>
            <a:ext cx="1438560" cy="60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Global SCM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9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Kevin 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87160" y="2341440"/>
            <a:ext cx="5648400" cy="4349880"/>
            <a:chOff x="2387160" y="2341440"/>
            <a:chExt cx="5648400" cy="4349880"/>
          </a:xfrm>
        </p:grpSpPr>
        <p:sp>
          <p:nvSpPr>
            <p:cNvPr id="393" name=""/>
            <p:cNvSpPr/>
            <p:nvPr/>
          </p:nvSpPr>
          <p:spPr>
            <a:xfrm flipV="1">
              <a:off x="2403360" y="2346480"/>
              <a:ext cx="4775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08360" y="2341440"/>
              <a:ext cx="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176600" y="235440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879880" y="2362320"/>
              <a:ext cx="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2880" y="5950080"/>
              <a:ext cx="4589640" cy="45216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2320" y="5156280"/>
              <a:ext cx="4588200" cy="452520"/>
            </a:xfrm>
            <a:custGeom>
              <a:avLst/>
              <a:gdLst>
                <a:gd name="textAreaLeft" fmla="*/ 0 w 4588200"/>
                <a:gd name="textAreaRight" fmla="*/ 4588560 w 45882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5920" y="4300560"/>
              <a:ext cx="4589640" cy="45252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0520" y="3489480"/>
              <a:ext cx="4589640" cy="455400"/>
            </a:xfrm>
            <a:custGeom>
              <a:avLst/>
              <a:gdLst>
                <a:gd name="textAreaLeft" fmla="*/ 0 w 4589640"/>
                <a:gd name="textAreaRight" fmla="*/ 4590000 w 4589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14" y="0"/>
                  </a:lnTo>
                  <a:lnTo>
                    <a:pt x="21600" y="10800"/>
                  </a:lnTo>
                  <a:lnTo>
                    <a:pt x="20614" y="21600"/>
                  </a:lnTo>
                  <a:lnTo>
                    <a:pt x="0" y="21600"/>
                  </a:lnTo>
                  <a:lnTo>
                    <a:pt x="986" y="108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388960" y="2357280"/>
              <a:ext cx="7200" cy="39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2476800" y="3981960"/>
              <a:ext cx="4191120" cy="12276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065200" y="3976920"/>
              <a:ext cx="4191120" cy="12348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3765240" y="3978720"/>
              <a:ext cx="4191120" cy="1231200"/>
            </a:xfrm>
            <a:prstGeom prst="rect">
              <a:avLst/>
            </a:prstGeom>
            <a:solidFill>
              <a:srgbClr val="cfcdd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5000" y="2575080"/>
              <a:ext cx="113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LAM</a:t>
              </a:r>
              <a:br>
                <a:rPr sz="1000"/>
              </a:b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Laurent Heisser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92720" y="2575080"/>
              <a:ext cx="11358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AS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Gerold Simbuer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90880" y="2573280"/>
              <a:ext cx="1148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SCM EUROP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000" spc="-1" strike="noStrike">
                  <a:solidFill>
                    <a:srgbClr val="3a0e66"/>
                  </a:solidFill>
                  <a:latin typeface="Minion"/>
                </a:rPr>
                <a:t>Dr. Bernd Schm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2680" y="3013200"/>
              <a:ext cx="1135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400" y="30193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MA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01160" y="3021120"/>
              <a:ext cx="54288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89120" y="3022560"/>
              <a:ext cx="3564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84400" y="3021120"/>
              <a:ext cx="35424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M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73920" y="3021120"/>
              <a:ext cx="3546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</a:rPr>
                <a:t>BQ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97600" y="6297480"/>
              <a:ext cx="2275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88960" y="546588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87160" y="4545000"/>
              <a:ext cx="2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88960" y="3635280"/>
              <a:ext cx="24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39880" y="3309840"/>
              <a:ext cx="107748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rder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41320" y="4141800"/>
              <a:ext cx="1079640" cy="78264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M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terial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37720" y="4975200"/>
              <a:ext cx="1077840" cy="77940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TL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Technolog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Lifecycle M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5811840"/>
              <a:ext cx="1077480" cy="77796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Minion"/>
                </a:rPr>
                <a:t>SCM Q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Qualit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inion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90400" y="3603600"/>
              <a:ext cx="3296520" cy="2680920"/>
              <a:chOff x="4190400" y="3603600"/>
              <a:chExt cx="3296520" cy="2680920"/>
            </a:xfrm>
          </p:grpSpPr>
          <p:sp>
            <p:nvSpPr>
              <p:cNvPr id="423" name=""/>
              <p:cNvSpPr/>
              <p:nvPr/>
            </p:nvSpPr>
            <p:spPr>
              <a:xfrm>
                <a:off x="4190400" y="605916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92880" y="6057720"/>
                <a:ext cx="72900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53600" y="605160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93280" y="5266440"/>
                <a:ext cx="72684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6120" y="5264640"/>
                <a:ext cx="72900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56840" y="525708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0400" y="4409640"/>
                <a:ext cx="72684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92880" y="44082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53600" y="4402440"/>
                <a:ext cx="727920" cy="22392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95800" y="3612600"/>
                <a:ext cx="726840" cy="22500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498280" y="3610800"/>
                <a:ext cx="72900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000" y="3603600"/>
                <a:ext cx="727920" cy="225360"/>
              </a:xfrm>
              <a:prstGeom prst="rect">
                <a:avLst/>
              </a:prstGeom>
              <a:solidFill>
                <a:srgbClr val="8076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 flipV="1">
            <a:off x="5133960" y="2089080"/>
            <a:ext cx="0" cy="26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72080" y="1549440"/>
            <a:ext cx="2678040" cy="598320"/>
          </a:xfrm>
          <a:prstGeom prst="rect">
            <a:avLst/>
          </a:prstGeom>
          <a:solidFill>
            <a:srgbClr val="460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Dr. Bernd Sch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Gerold Simbürger (depu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MG Management System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39680" y="1860480"/>
            <a:ext cx="698832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Business and cost control requires increased transparency, speed, and compatibility with BenQ Corp.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Respective controlling and management tools need to be established and / or consolidated / improv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st down programs needs to be executed consequently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lvl="1" marL="184320" indent="-1828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ocused attention beyond daily operational business required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5207040"/>
            <a:ext cx="8102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as per April 1</a:t>
            </a:r>
            <a:r>
              <a:rPr b="1" lang="en-US" sz="24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3320" y="48960"/>
            <a:ext cx="83422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BenQ Mobile Group governance structure (April 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2" name=""/>
          <p:cNvSpPr/>
          <p:nvPr/>
        </p:nvSpPr>
        <p:spPr>
          <a:xfrm>
            <a:off x="806400" y="809640"/>
            <a:ext cx="74534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BenQ Mobile Business Group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emens J. Joos (CEO), Jerry Wang (Chairman), Irwin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95240" y="1368360"/>
            <a:ext cx="5106960" cy="2171880"/>
            <a:chOff x="795240" y="1368360"/>
            <a:chExt cx="5106960" cy="2171880"/>
          </a:xfrm>
        </p:grpSpPr>
        <p:sp>
          <p:nvSpPr>
            <p:cNvPr id="444" name=""/>
            <p:cNvSpPr/>
            <p:nvPr/>
          </p:nvSpPr>
          <p:spPr>
            <a:xfrm>
              <a:off x="795240" y="1368360"/>
              <a:ext cx="5106960" cy="21718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25360" y="1415880"/>
              <a:ext cx="4446720" cy="328680"/>
            </a:xfrm>
            <a:prstGeom prst="rect">
              <a:avLst/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duct House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br>
                <a:rPr sz="3200"/>
              </a:b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</a:t>
              </a: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Jochen Eickholt &amp;  Irwin Che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11160" y="177480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&amp;D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iegfried Bocionek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Yungchia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1160" y="2216160"/>
            <a:ext cx="4875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C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Bernd Schmid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Gerold Simbuer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265752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Strategic Procur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acting Jens Danneil  &amp; 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resa Wu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1160" y="3098880"/>
            <a:ext cx="487512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Technical PM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Holger Asmussen &amp;  Pat Hsu &amp;  act. Katrin Bra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680" y="6232320"/>
            <a:ext cx="6524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975040"/>
                <a:tab algn="l" pos="46641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000" spc="-1" strike="noStrike">
                <a:solidFill>
                  <a:srgbClr val="1e0a63"/>
                </a:solidFill>
                <a:latin typeface="Minion"/>
              </a:rPr>
              <a:t>1) Have dedicated Business Administration (BA) function    2) including Regional Marketing   3) Reporting to Jerry Wa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9120" y="6035760"/>
            <a:ext cx="7470720" cy="24588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ocal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120" y="4081320"/>
            <a:ext cx="245088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Global Marketing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Richard Leong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  &amp; Sandra Rub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9120" y="3610080"/>
            <a:ext cx="5113080" cy="39996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3528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ategory  Management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Phil Mulholland &amp; </a:t>
            </a: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Harrison Ch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9120" y="5649840"/>
            <a:ext cx="5113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zh-TW" sz="1200" spc="-1" strike="noStrike">
                <a:solidFill>
                  <a:srgbClr val="3a0e66"/>
                </a:solidFill>
                <a:latin typeface="Minion"/>
              </a:rPr>
              <a:t>Customer Care </a:t>
            </a:r>
            <a:r>
              <a:rPr b="1" lang="zh-TW" sz="1200" spc="-1" strike="noStrike" baseline="30000">
                <a:solidFill>
                  <a:srgbClr val="3a0e66"/>
                </a:solidFill>
                <a:latin typeface="Minion"/>
              </a:rPr>
              <a:t>1)</a:t>
            </a:r>
            <a:br>
              <a:rPr sz="1200"/>
            </a:br>
            <a:r>
              <a:rPr b="0" lang="zh-TW" sz="1200" spc="-1" strike="noStrike">
                <a:solidFill>
                  <a:srgbClr val="3a0e66"/>
                </a:solidFill>
                <a:latin typeface="Minion"/>
              </a:rPr>
              <a:t>(Stefan Plet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37200" y="3781440"/>
            <a:ext cx="2222640" cy="2524320"/>
            <a:chOff x="6037200" y="3781440"/>
            <a:chExt cx="2222640" cy="2524320"/>
          </a:xfrm>
        </p:grpSpPr>
        <p:sp>
          <p:nvSpPr>
            <p:cNvPr id="456" name=""/>
            <p:cNvSpPr/>
            <p:nvPr/>
          </p:nvSpPr>
          <p:spPr>
            <a:xfrm>
              <a:off x="6037200" y="3781440"/>
              <a:ext cx="222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3809880"/>
              <a:ext cx="214020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Project Office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Karl Kornwolf &amp; Theresa Ch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Strategy &amp; Communication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rco Stuelpn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QM</a:t>
              </a:r>
              <a:r>
                <a:rPr b="1" lang="zh-TW" sz="1200" spc="-1" strike="noStrike" baseline="30000">
                  <a:solidFill>
                    <a:srgbClr val="3a0e66"/>
                  </a:solidFill>
                  <a:latin typeface="Minion"/>
                  <a:ea typeface="新細明體"/>
                </a:rPr>
                <a:t>1)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Alexander Fill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H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Nils-Peter Daet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ISR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(Matthias Schneider-Hufschmi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037200" y="1351080"/>
            <a:ext cx="2222640" cy="2350800"/>
            <a:chOff x="6037200" y="1351080"/>
            <a:chExt cx="2222640" cy="2350800"/>
          </a:xfrm>
        </p:grpSpPr>
        <p:sp>
          <p:nvSpPr>
            <p:cNvPr id="459" name=""/>
            <p:cNvSpPr/>
            <p:nvPr/>
          </p:nvSpPr>
          <p:spPr>
            <a:xfrm>
              <a:off x="6037200" y="1351080"/>
              <a:ext cx="2222640" cy="23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19640" y="1406520"/>
              <a:ext cx="20844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Finance</a:t>
              </a: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(Alex Lio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en-US" sz="1200" spc="-1" strike="noStrike">
                  <a:solidFill>
                    <a:srgbClr val="3a0e66"/>
                  </a:solidFill>
                  <a:latin typeface="Minion"/>
                </a:rPr>
                <a:t>Accounting &amp; Finance, Legal Services, Taxes, Treas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19640" y="2241720"/>
              <a:ext cx="20559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Controlling 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Lydia Sommer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Planning &amp; Controlling, Sales Operations Controlling, Pricing Office, IT, Audit, Corp.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9640" y="3259080"/>
              <a:ext cx="2055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BMG Management System</a:t>
              </a:r>
              <a:br>
                <a:rPr sz="1200"/>
              </a:b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David Wang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452760" y="4068720"/>
            <a:ext cx="2448000" cy="39852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Lifestyle Design Centre Munich</a:t>
            </a:r>
            <a:r>
              <a:rPr b="1" lang="en-US" sz="12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Jonathan Yin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89120" y="4545000"/>
            <a:ext cx="5244840" cy="1181160"/>
            <a:chOff x="789120" y="4545000"/>
            <a:chExt cx="5244840" cy="1181160"/>
          </a:xfrm>
        </p:grpSpPr>
        <p:sp>
          <p:nvSpPr>
            <p:cNvPr id="465" name=""/>
            <p:cNvSpPr/>
            <p:nvPr/>
          </p:nvSpPr>
          <p:spPr>
            <a:xfrm>
              <a:off x="789120" y="4545000"/>
              <a:ext cx="5111640" cy="1057320"/>
            </a:xfrm>
            <a:prstGeom prst="rect">
              <a:avLst/>
            </a:prstGeom>
            <a:solidFill>
              <a:srgbClr val="cfc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1200" spc="-1" strike="noStrike">
                  <a:solidFill>
                    <a:srgbClr val="3a0e66"/>
                  </a:solidFill>
                  <a:latin typeface="Minion"/>
                </a:rPr>
                <a:t>Sales </a:t>
              </a:r>
              <a:r>
                <a:rPr b="1" lang="en-US" sz="1200" spc="-1" strike="noStrike" baseline="30000">
                  <a:solidFill>
                    <a:srgbClr val="3a0e66"/>
                  </a:solidFill>
                  <a:latin typeface="Minion"/>
                </a:rPr>
                <a:t>1, 2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920" y="4735440"/>
              <a:ext cx="2597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Western EUR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Denis More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Eastern EUR / MEA 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(Josef For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Sales Coordination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Martin Furuset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38520" y="4735440"/>
              <a:ext cx="239544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APAC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acting Y.S.Che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zh-TW" sz="1200" spc="-1" strike="noStrike">
                  <a:solidFill>
                    <a:srgbClr val="3a0e66"/>
                  </a:solidFill>
                  <a:latin typeface="Minion"/>
                </a:rPr>
                <a:t>LAM</a:t>
              </a:r>
              <a:r>
                <a:rPr b="0" lang="zh-TW" sz="1200" spc="-1" strike="noStrike">
                  <a:solidFill>
                    <a:srgbClr val="3a0e66"/>
                  </a:solidFill>
                  <a:latin typeface="Minion"/>
                </a:rPr>
                <a:t> (Guy Spillebeen)</a:t>
              </a: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79400"/>
                  <a:tab algn="l" pos="1558800"/>
                  <a:tab algn="l" pos="2338560"/>
                  <a:tab algn="l" pos="3117960"/>
                  <a:tab algn="l" pos="3897360"/>
                  <a:tab algn="l" pos="4676760"/>
                  <a:tab algn="l" pos="5456160"/>
                  <a:tab algn="l" pos="6235560"/>
                  <a:tab algn="l" pos="7015320"/>
                  <a:tab algn="l" pos="7794720"/>
                  <a:tab algn="l" pos="8574120"/>
                  <a:tab algn="l" pos="9353520"/>
                  <a:tab algn="l" pos="10132920"/>
                  <a:tab algn="l" pos="1091232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China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</a:rPr>
                <a:t> (Danny HC Ya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03440" y="4038480"/>
            <a:ext cx="2530800" cy="470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aseline is within reach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2160" y="2006640"/>
            <a:ext cx="7023240" cy="21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Consequent implementation of specified project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Finalization of detailed organizational structure until end of March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Secure identified and realized cost run rate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</a:rPr>
              <a:t>Go the last mile on cost savings</a:t>
            </a:r>
            <a:endParaRPr b="0" lang="en-US" sz="2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" y="5572800"/>
            <a:ext cx="8102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efocus on top line profitable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73360" y="3060720"/>
            <a:ext cx="3124080" cy="300996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2600" y="3489480"/>
            <a:ext cx="1415880" cy="1298520"/>
          </a:xfrm>
          <a:prstGeom prst="ellipse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200" y="262080"/>
            <a:ext cx="8534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Mobile Business Regaining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1720" y="1135080"/>
            <a:ext cx="9284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3360" y="1135080"/>
            <a:ext cx="5983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1720" y="3427560"/>
            <a:ext cx="1152720" cy="50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200" y="1666800"/>
            <a:ext cx="181296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20016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</a:rPr>
              <a:t>Plain-vanilla portfol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27120" y="1666800"/>
            <a:ext cx="36784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Market l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Compelling on lifestyle benefi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buClr>
                <a:srgbClr val="0000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Minion"/>
                <a:ea typeface="新細明體"/>
              </a:rPr>
              <a:t>Potent multimedia fu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3859200"/>
            <a:ext cx="685800" cy="609480"/>
          </a:xfrm>
          <a:prstGeom prst="rightArrow">
            <a:avLst>
              <a:gd name="adj1" fmla="val 50000"/>
              <a:gd name="adj2" fmla="val 5209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5040" y="1135080"/>
            <a:ext cx="2941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Minion"/>
              </a:rPr>
              <a:t>ASP over last five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0" t="1417" r="0" b="0"/>
          <a:stretch/>
        </p:blipFill>
        <p:spPr>
          <a:xfrm>
            <a:off x="3224160" y="3429000"/>
            <a:ext cx="522360" cy="1071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rcRect l="0" t="3543" r="0" b="0"/>
          <a:stretch/>
        </p:blipFill>
        <p:spPr>
          <a:xfrm>
            <a:off x="4021200" y="3368520"/>
            <a:ext cx="420480" cy="11052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rcRect l="0" t="0" r="3296" b="0"/>
          <a:stretch/>
        </p:blipFill>
        <p:spPr>
          <a:xfrm>
            <a:off x="4695840" y="3489480"/>
            <a:ext cx="480960" cy="860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46560" y="428940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1320" y="4289400"/>
            <a:ext cx="7351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979720" y="4719600"/>
            <a:ext cx="763560" cy="909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3591000" y="4780080"/>
            <a:ext cx="981000" cy="884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11520" y="4719600"/>
            <a:ext cx="1051200" cy="1035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754520" y="539604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5396040"/>
            <a:ext cx="7347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S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57480" y="5396040"/>
            <a:ext cx="736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4520" y="4289400"/>
            <a:ext cx="7365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nion"/>
              </a:rPr>
              <a:t>EF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334200" y="2568600"/>
          <a:ext cx="224640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34200" y="2568600"/>
                    <a:ext cx="22464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6692760" y="2936880"/>
            <a:ext cx="2022480" cy="685800"/>
          </a:xfrm>
          <a:custGeom>
            <a:avLst/>
            <a:gdLst/>
            <a:ahLst/>
            <a:rect l="l" t="t" r="r" b="b"/>
            <a:pathLst>
              <a:path w="1497" h="506">
                <a:moveTo>
                  <a:pt x="0" y="0"/>
                </a:moveTo>
                <a:cubicBezTo>
                  <a:pt x="136" y="140"/>
                  <a:pt x="272" y="280"/>
                  <a:pt x="408" y="363"/>
                </a:cubicBezTo>
                <a:cubicBezTo>
                  <a:pt x="544" y="446"/>
                  <a:pt x="672" y="506"/>
                  <a:pt x="816" y="499"/>
                </a:cubicBezTo>
                <a:cubicBezTo>
                  <a:pt x="960" y="492"/>
                  <a:pt x="1157" y="371"/>
                  <a:pt x="1270" y="318"/>
                </a:cubicBezTo>
                <a:cubicBezTo>
                  <a:pt x="1383" y="265"/>
                  <a:pt x="1459" y="205"/>
                  <a:pt x="1497" y="182"/>
                </a:cubicBezTo>
              </a:path>
            </a:pathLst>
          </a:custGeom>
          <a:noFill/>
          <a:ln w="38160">
            <a:solidFill>
              <a:srgbClr val="a6a0c2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3080" y="3859200"/>
            <a:ext cx="442800" cy="492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1480" y="3859200"/>
            <a:ext cx="44280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01680" y="3859200"/>
            <a:ext cx="4399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47160"/>
            <a:ext cx="77821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aunching BenQ-Siemens with a 3-event strategy targeting diverse key audienc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2" name=""/>
          <p:cNvSpPr/>
          <p:nvPr/>
        </p:nvSpPr>
        <p:spPr>
          <a:xfrm>
            <a:off x="190440" y="1473120"/>
            <a:ext cx="8788320" cy="3949920"/>
          </a:xfrm>
          <a:custGeom>
            <a:avLst/>
            <a:gdLst/>
            <a:ahLst/>
            <a:rect l="l" t="t" r="r" b="b"/>
            <a:pathLst>
              <a:path w="5506" h="2627">
                <a:moveTo>
                  <a:pt x="0" y="1988"/>
                </a:moveTo>
                <a:cubicBezTo>
                  <a:pt x="56" y="1877"/>
                  <a:pt x="99" y="1319"/>
                  <a:pt x="341" y="1319"/>
                </a:cubicBezTo>
                <a:cubicBezTo>
                  <a:pt x="583" y="1319"/>
                  <a:pt x="879" y="2626"/>
                  <a:pt x="1214" y="2626"/>
                </a:cubicBezTo>
                <a:cubicBezTo>
                  <a:pt x="1549" y="2626"/>
                  <a:pt x="1778" y="966"/>
                  <a:pt x="2088" y="966"/>
                </a:cubicBezTo>
                <a:cubicBezTo>
                  <a:pt x="2398" y="966"/>
                  <a:pt x="2651" y="2627"/>
                  <a:pt x="2961" y="2626"/>
                </a:cubicBezTo>
                <a:cubicBezTo>
                  <a:pt x="3271" y="2625"/>
                  <a:pt x="3490" y="607"/>
                  <a:pt x="3840" y="606"/>
                </a:cubicBezTo>
                <a:cubicBezTo>
                  <a:pt x="4190" y="605"/>
                  <a:pt x="4385" y="2626"/>
                  <a:pt x="4707" y="2626"/>
                </a:cubicBezTo>
                <a:cubicBezTo>
                  <a:pt x="5029" y="2626"/>
                  <a:pt x="5340" y="547"/>
                  <a:pt x="5506" y="0"/>
                </a:cubicBezTo>
              </a:path>
            </a:pathLst>
          </a:custGeom>
          <a:noFill/>
          <a:ln w="38160">
            <a:solidFill>
              <a:srgbClr val="b09f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70200" y="2244600"/>
            <a:ext cx="7080120" cy="0"/>
          </a:xfrm>
          <a:prstGeom prst="line">
            <a:avLst/>
          </a:prstGeom>
          <a:ln w="28440">
            <a:solidFill>
              <a:srgbClr val="8076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81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1720" y="2644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89864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51680" y="264492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60800" y="2285280"/>
            <a:ext cx="228600" cy="25236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45800" y="264492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000" y="3171960"/>
            <a:ext cx="9936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5008680"/>
            <a:ext cx="82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arge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81800" y="1192320"/>
            <a:ext cx="2205000" cy="4365360"/>
            <a:chOff x="6481800" y="1192320"/>
            <a:chExt cx="2205000" cy="4365360"/>
          </a:xfrm>
        </p:grpSpPr>
        <p:sp>
          <p:nvSpPr>
            <p:cNvPr id="513" name=""/>
            <p:cNvSpPr/>
            <p:nvPr/>
          </p:nvSpPr>
          <p:spPr>
            <a:xfrm>
              <a:off x="6481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365960" y="2333520"/>
              <a:ext cx="595440" cy="52236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515" name=""/>
            <p:cNvSpPr/>
            <p:nvPr/>
          </p:nvSpPr>
          <p:spPr>
            <a:xfrm>
              <a:off x="6481800" y="3171960"/>
              <a:ext cx="22050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eBIT 2006 Ha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launch of "Exploration"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0800000">
              <a:off x="65516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1800" y="5008680"/>
              <a:ext cx="2184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nsumer and general 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81800" y="1192320"/>
              <a:ext cx="220500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1798560" y="1197000"/>
            <a:ext cx="2227320" cy="5183640"/>
            <a:chOff x="1798560" y="1197000"/>
            <a:chExt cx="2227320" cy="5183640"/>
          </a:xfrm>
        </p:grpSpPr>
        <p:sp>
          <p:nvSpPr>
            <p:cNvPr id="520" name=""/>
            <p:cNvSpPr/>
            <p:nvPr/>
          </p:nvSpPr>
          <p:spPr>
            <a:xfrm>
              <a:off x="1889280" y="1197000"/>
              <a:ext cx="195552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2320" y="3171960"/>
              <a:ext cx="22035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889280" y="1197000"/>
              <a:ext cx="195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179856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2320" y="5008680"/>
              <a:ext cx="20894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op tier news, business and </a:t>
              </a:r>
              <a:br>
                <a:rPr sz="18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dustry 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ailored analyst brief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540160" y="2268360"/>
              <a:ext cx="765000" cy="854280"/>
              <a:chOff x="2540160" y="2268360"/>
              <a:chExt cx="765000" cy="854280"/>
            </a:xfrm>
          </p:grpSpPr>
          <p:pic>
            <p:nvPicPr>
              <p:cNvPr id="5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40160" y="2268360"/>
                <a:ext cx="765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65360" y="2392200"/>
                <a:ext cx="7365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  <a:ea typeface="文鼎中黑"/>
                  </a:rPr>
                  <a:t>BenQ-Siem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4060800" y="1197000"/>
            <a:ext cx="2205000" cy="5457960"/>
            <a:chOff x="4060800" y="1197000"/>
            <a:chExt cx="2205000" cy="5457960"/>
          </a:xfrm>
        </p:grpSpPr>
        <p:sp>
          <p:nvSpPr>
            <p:cNvPr id="529" name=""/>
            <p:cNvSpPr/>
            <p:nvPr/>
          </p:nvSpPr>
          <p:spPr>
            <a:xfrm>
              <a:off x="4060800" y="1197000"/>
              <a:ext cx="2205000" cy="100656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5"/>
            <a:stretch/>
          </p:blipFill>
          <p:spPr>
            <a:xfrm>
              <a:off x="4060800" y="1197000"/>
              <a:ext cx="22050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060800" y="3171960"/>
              <a:ext cx="220500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SM Barcel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irst detailed hands-on exposure of BenQ-Siemens to larger B2B and press aud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0800000">
              <a:off x="4118040" y="4662000"/>
              <a:ext cx="1882800" cy="187560"/>
            </a:xfrm>
            <a:prstGeom prst="triangle">
              <a:avLst>
                <a:gd name="adj" fmla="val 50000"/>
              </a:avLst>
            </a:prstGeom>
            <a:solidFill>
              <a:srgbClr val="807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60800" y="5008680"/>
              <a:ext cx="21844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Focus on technology and trade pr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5400" indent="-939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uilding on momentum from brand 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4572000" y="2414520"/>
              <a:ext cx="119052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CeBIT Impres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206280" y="2147760"/>
            <a:ext cx="1346400" cy="100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06280" y="3156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206280" y="416412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1595520" y="1130400"/>
            <a:ext cx="3708360" cy="24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5357880" y="3699000"/>
            <a:ext cx="3708360" cy="2473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5357880" y="1125360"/>
            <a:ext cx="3708360" cy="2473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8"/>
          <a:stretch/>
        </p:blipFill>
        <p:spPr>
          <a:xfrm>
            <a:off x="209520" y="5172120"/>
            <a:ext cx="1343160" cy="10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1595520" y="370188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7989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ecutive summary (cont.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911160"/>
            <a:ext cx="823896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</a:rPr>
              <a:t>Structural adjustments will contribute to Value, Cost, and Speed (con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realization of synergies within the two product houses is not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refore they are consolidated and headed jointly by Dr. Jochen Eickholt &amp; Dr. Irw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house structures will be standardized and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15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-"/>
              <a:tabLst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obs and tasks from Ulm are transferred to Munich or Kamp Lintfort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Customer Care will be positioned as the first independent global after-sales-company for the consumer electronics industry (exclusive partner for BenQ Mobile products, preferred partner for BenQ Corp. in Europe, and soliciting third party busin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avid Wang to join the management team to drive forward the BMG Managemen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new Lifestyle Design Center in Munich will be headed by Jonathan 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urnaround efforts are becoming 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brand launch trilogy is restoring customer confidence and creating consumer enthusi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dominated the media agenda during CeBIT 2006 with 5 times as many press clippings as all competitors together around the first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w products with exciting lifestyle benefits are already driving the 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ership position has been gained in innovation (e.g. HSDPA, OLED), in design and user experience (e.g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terials, mechanics, miniaturization)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, and multimedia and applications (e.g. cameras, Google se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ding operators are listing our products – one major German operator even delisted Samsung in favor of BenQ-Siem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TW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line is within reach:  Last mile on cost saving to go, refocus on top line profitable growth subsequent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560" y="1787400"/>
            <a:ext cx="7515360" cy="358632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7989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ey target for Q1 CY2006 was to achieve operational and market stabil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252440" y="2077920"/>
            <a:ext cx="631692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topping volume erosion in Q3 and Q4 CY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Secure transition / carve out of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Reorganize / integrat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Reduce cost to achieve 500 Mio €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hieve credibility with consumers: Outstanding operator listings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0919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28752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688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48416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885840"/>
            <a:ext cx="49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47160"/>
            <a:ext cx="86234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Corp reports a loss of ~150 Mio € for Q4 CY2005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7040" y="1071720"/>
            <a:ext cx="8134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Losses are due in large part to the merger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Handset product line was focused low margin products –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products with little or no competitive strength were clear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Unscheduled delays (missed time-to-market) occurred in releasing new, competi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During the transition, some divisions incurred additional expenses when adjusting their inventories and closing bad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52520" indent="-266760">
              <a:lnSpc>
                <a:spcPct val="100000"/>
              </a:lnSpc>
              <a:spcAft>
                <a:spcPts val="751"/>
              </a:spcAft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We are still bound to some material providers by long-term contracts – 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新細明體"/>
              </a:rPr>
              <a:t>Cost-down measures will become effective not until Q2 CY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100000"/>
              </a:lnSpc>
              <a:spcAft>
                <a:spcPts val="901"/>
              </a:spcAft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新細明體"/>
              </a:rPr>
              <a:t>At the same time, profits from IT and CE were not large enough to compensate for the losses in the handse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5424480"/>
            <a:ext cx="829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key to BenQ turnaround is to improv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he situation of BM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unctional cost were taken down while safeguard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erational capability (R&amp;D, CM &amp; Sale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48117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117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1128600"/>
            <a:ext cx="3299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Jan. 2006 vs. Ja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1225440"/>
            <a:ext cx="4114800" cy="495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9560" y="1225440"/>
            <a:ext cx="4114800" cy="42876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7800" y="1280880"/>
            <a:ext cx="32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OpEx, Q4 2005 vs. Q4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08240" y="2265480"/>
          <a:ext cx="297000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098800" y="1946160"/>
            <a:ext cx="1385640" cy="11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Q4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6040" y="2367000"/>
            <a:ext cx="5493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8720" y="2298600"/>
            <a:ext cx="46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273852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571920"/>
            <a:ext cx="95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6920" y="4500720"/>
            <a:ext cx="46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718240" y="2265480"/>
          <a:ext cx="2970000" cy="29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265480"/>
                    <a:ext cx="297000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508800" y="2066760"/>
            <a:ext cx="1386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273400"/>
            <a:ext cx="54900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-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2309760"/>
            <a:ext cx="4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G&amp;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03920" y="27082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Selling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446640"/>
            <a:ext cx="95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4414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519588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3960" y="519588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62240" y="5508720"/>
            <a:ext cx="1469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13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8480" y="5508720"/>
            <a:ext cx="1488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emens MD an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6960" y="5630040"/>
            <a:ext cx="1393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82960" y="1717200"/>
            <a:ext cx="1428840" cy="730440"/>
            <a:chOff x="2982960" y="1717200"/>
            <a:chExt cx="1428840" cy="730440"/>
          </a:xfrm>
        </p:grpSpPr>
        <p:sp>
          <p:nvSpPr>
            <p:cNvPr id="102" name=""/>
            <p:cNvSpPr/>
            <p:nvPr/>
          </p:nvSpPr>
          <p:spPr>
            <a:xfrm>
              <a:off x="2982960" y="1733400"/>
              <a:ext cx="1428840" cy="698760"/>
            </a:xfrm>
            <a:prstGeom prst="ellipse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3680" y="1717200"/>
              <a:ext cx="1427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st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&gt; 100 Mio 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52560" y="-74520"/>
            <a:ext cx="5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440" y="49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Despite significant progress, cost position is not in line with revenue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" y="1108080"/>
            <a:ext cx="52066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Better alignment of CM and 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rovement of market intimacy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Realization of synergy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BoM sav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dditional cut of function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2520" indent="-1810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Alignment of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58480">
              <a:lnSpc>
                <a:spcPct val="100000"/>
              </a:lnSpc>
              <a:spcBef>
                <a:spcPts val="82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Further reduction of R&amp;D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358800" y="2948040"/>
            <a:ext cx="4359240" cy="374760"/>
          </a:xfrm>
          <a:prstGeom prst="triangle">
            <a:avLst>
              <a:gd name="adj" fmla="val 50000"/>
            </a:avLst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686960"/>
            <a:ext cx="306072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</a:rPr>
              <a:t>Structural adjust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all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320" indent="-182880">
              <a:lnSpc>
                <a:spcPct val="90000"/>
              </a:lnSpc>
              <a:spcBef>
                <a:spcPts val="1375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新細明體"/>
              </a:rPr>
              <a:t>Impacting structure and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120" y="556632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arget: Additional 100 Mio € functional cos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eduction in 2006 will also affec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925560"/>
            <a:ext cx="72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60" y="225432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0" y="4013280"/>
            <a:ext cx="75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6280" y="33120"/>
            <a:ext cx="85010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TW" sz="2800" spc="-1" strike="noStrike">
                <a:solidFill>
                  <a:srgbClr val="3a0e66"/>
                </a:solidFill>
                <a:latin typeface="Minion"/>
              </a:rPr>
              <a:t>Customer Care is a well managed organization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7960" y="932040"/>
            <a:ext cx="8785440" cy="5560200"/>
            <a:chOff x="237960" y="932040"/>
            <a:chExt cx="8785440" cy="5560200"/>
          </a:xfrm>
        </p:grpSpPr>
        <p:grpSp>
          <p:nvGrpSpPr>
            <p:cNvPr id="116" name=""/>
            <p:cNvGrpSpPr/>
            <p:nvPr/>
          </p:nvGrpSpPr>
          <p:grpSpPr>
            <a:xfrm>
              <a:off x="237960" y="932040"/>
              <a:ext cx="8785440" cy="5560200"/>
              <a:chOff x="237960" y="932040"/>
              <a:chExt cx="8785440" cy="556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4091040" y="932040"/>
                <a:ext cx="4932360" cy="4381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46800" anchor="ctr">
                <a:noAutofit/>
              </a:bodyPr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et up CC as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irst global after-sales-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the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nsumer electronics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indust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in-ou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all international service activities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of BMG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into a separate legal entity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(CC New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xclusive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Mobile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Preferred partner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for BenQ Corp. in 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olicit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hird party busines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71440" indent="-181080">
                  <a:lnSpc>
                    <a:spcPct val="100000"/>
                  </a:lnSpc>
                  <a:spcBef>
                    <a:spcPts val="499"/>
                  </a:spcBef>
                  <a:buClr>
                    <a:srgbClr val="3a0e66"/>
                  </a:buClr>
                  <a:buFont typeface="Minio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889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New Company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to be set up asap,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ransition</a:t>
                </a: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scheduled for </a:t>
                </a:r>
                <a:r>
                  <a:rPr b="1" lang="en-US" sz="20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end of June, 2006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7960" y="5545080"/>
                <a:ext cx="841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... developing from a cost to a profit center </a:t>
                </a:r>
                <a:br>
                  <a:rPr sz="2800"/>
                </a:br>
                <a:r>
                  <a:rPr b="1" lang="zh-TW" sz="28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for further profitable growt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 rot="10800000">
              <a:off x="5536800" y="4205160"/>
              <a:ext cx="1724040" cy="176400"/>
            </a:xfrm>
            <a:prstGeom prst="triangle">
              <a:avLst>
                <a:gd name="adj" fmla="val 50000"/>
              </a:avLst>
            </a:prstGeom>
            <a:solidFill>
              <a:srgbClr val="a6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280" y="933480"/>
            <a:ext cx="4030920" cy="4395600"/>
          </a:xfrm>
          <a:custGeom>
            <a:avLst/>
            <a:gdLst>
              <a:gd name="textAreaLeft" fmla="*/ 0 w 4030920"/>
              <a:gd name="textAreaRight" fmla="*/ 4031280 w 4030920"/>
              <a:gd name="textAreaTop" fmla="*/ 0 h 4395600"/>
              <a:gd name="textAreaBottom" fmla="*/ 4395960 h 439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5" y="0"/>
                </a:lnTo>
                <a:lnTo>
                  <a:pt x="21600" y="10800"/>
                </a:lnTo>
                <a:lnTo>
                  <a:pt x="197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p tier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in internal (BenQ) and external benchm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Operational  process excel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Glob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nd peopl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cope and scale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could further drive CC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busines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e.g. BenQ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2206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quisition of additional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volume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(3</a:t>
            </a:r>
            <a:r>
              <a:rPr b="0" lang="en-US" sz="2000" spc="-1" strike="noStrike" baseline="30000">
                <a:solidFill>
                  <a:srgbClr val="3a0e66"/>
                </a:solidFill>
                <a:latin typeface="Minion"/>
                <a:ea typeface="文鼎中黑"/>
              </a:rPr>
              <a:t>rd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 party mobile bus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ite consolidation will be consequently executed, jobs and tasks from Ulm are transferr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496880"/>
            <a:ext cx="7515360" cy="462600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1787400"/>
            <a:ext cx="63169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ll jobs are preserved – no layof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The jobs will be located in Munich Headquarters</a:t>
            </a:r>
            <a:br>
              <a:rPr sz="2200"/>
            </a:b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(or in Kamp Lintfort if desir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Actual tasks are shifted with the workpl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Better utilization of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Full involvement in core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inion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TW" sz="2200" spc="-1" strike="noStrike">
                <a:solidFill>
                  <a:srgbClr val="3a0e66"/>
                </a:solidFill>
                <a:latin typeface="Minion"/>
              </a:rPr>
              <a:t>Right sizing of infra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ScheubleS</cp:lastModifiedBy>
  <dcterms:modified xsi:type="dcterms:W3CDTF">2006-03-17T17:02:46Z</dcterms:modified>
  <cp:revision>526</cp:revision>
  <dc:subject/>
  <dc:title>All-hands meeting</dc:title>
</cp:coreProperties>
</file>